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3.png" ContentType="image/png"/>
  <Override PartName="/ppt/media/image34.gif" ContentType="image/gif"/>
  <Override PartName="/ppt/media/image36.jpeg" ContentType="image/jpeg"/>
  <Override PartName="/ppt/media/image40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8.gif" ContentType="image/gif"/>
  <Override PartName="/ppt/media/image29.jpeg" ContentType="image/jpeg"/>
  <Override PartName="/ppt/media/image7.gif" ContentType="image/gif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1D6-E0DF-4B32-A098-8A10EA83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064-5AAD-4B79-B935-2821C0E6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D17-FBB9-4015-88B6-01C7223B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228-AB94-449C-9B06-A7A58A5C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4B3-2C1E-4063-90E6-8649769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CBF8-C4A3-4FB3-85E9-E8D90848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C83-84C5-4F91-BBE3-EE9052DC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BFC-8A89-4171-ADCD-EE261F6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7515-99E1-4D8E-82E2-FB72350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7763-5D6E-4D38-912C-8E46F0E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F34-37C7-477E-A592-B688831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47C-C6BC-4286-8F9B-9A1445F3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CC7-140E-41B2-AF58-13CAC8A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361C-399A-4C14-9179-D9150D4A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E74B-A10C-4654-B4D6-5082DECE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F3ED-2773-42A3-BDD8-76E4803B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6C14-CF48-4872-A927-CE88FE30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C89-CDD1-4225-81D0-865F8BE9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FED-D44A-48F3-8C2A-2E48180B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255-B2D8-4955-9E85-9D6D3CF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354-A297-43A8-9003-7807BB45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F2D-A13B-4DCD-AB4C-9A608CD2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58A-68F9-411A-88FA-06A48E0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1ED-3BFB-41A9-B2DB-3621BF9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C4D4-4351-46F9-A150-3F3C5A448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EF2-B1FB-4DD9-9D24-295E859A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AN IV WAS TE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an the Terrible had a mistrust of the nobility (it was rumored they had poisoned his mother) and it was his treatment of them that earned him the nick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an massacred thousands of boyar families and forcibly relocated thousand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80120" y="1600200"/>
            <a:ext cx="3624120" cy="510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AN IV’S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IV’s most important achievement was a system of central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created departments of state which resulted in more efficient management of military and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sian surfs lost their right of movement from estate to estate and overall had far fewer rights than their western counter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640" y="1639800"/>
            <a:ext cx="3657600" cy="444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6172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sian peas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OLAND-LITHU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3487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the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, Casimir IV (1447-1492) ruled the kingdom of Poland and the grand duchy of 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mal union of Polish and Luthuanian crowns in 1569 decentralized the states and gave the nobles mor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end, the states split and Russia took most of Luthuania while the Ottomans took most of Hung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144792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69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WESTERN PO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ommon pattern emerged in the consolidation of western Europea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and by  administrative centralization, France by good fortune, and Spain by dynastic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419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3962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TAMING OF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95320" y="53316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natural defenses of an island nation, England could have been the first European nation to consolidate had it not been for noble ambition and a weak crown (see War of the Roses, 1455-14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Tudor as Henry VII and his son Henry VIII put an end to dynastic instability and created a new nobility that owed their titles and loyalty to the Tud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50292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duing the nobles was critical to the Tudors success in consolidating Eng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30492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INANCIAL ISSUES IN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glish monarch were supposed to live “on their own,” that is, off the revenues from his own e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liament defended the English landed class interests and had to OK taxes proposed by the c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wasn’t until Henry VIII confiscated Church lands did the crown become 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ly, Henry VIII minister Thomas Cromwell created state departments and cleverly manipulated Parlia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114800" cy="3267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7692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liament in England has long played a pivotal role in English 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UNIFICATION OF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ts to France unification were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glish were finally subdued by the Hundred Years’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France’s eastern border, were the estates of the dukes of Burgu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ings of France and the dukes of Burgundy were both of the House of Val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ckily for France, the Burgundians were defeated in a war against Swiss forces in 14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3049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038480" cy="3963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8600" y="5943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Markward of Reisenber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Nancy, 14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IS XI CONSOLIDATES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 XI vastly increased the territories under France domain and he subdued the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enemies constantly underestimated his abilities, earning him the nickname “the Spi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gained Brittany and Orleans by marriage and in 1527 when the lands of Bourbon fell to the crown, the French monarch ruled a unifi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70520" y="182880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81480" y="1981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uis XI, 1461-14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95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IS XI FAILS TO NAB LOW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31784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misstep by Louis XI was the failure to gain the Burgandian Low Countries for France after the death  of Charles the Bold in 14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riage of Mary of Burgundy to Maximilian of Hapsburg was a significant turning point in Europea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itiated the struggle for control of the Low Countries that lasted for more than two centu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RANCE FIN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ng years of wars established the principle of royal taxation that was critical to nation building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ed the crown to raise money for defense and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tax burden fell to the commoners, the so-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rd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es includ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il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land)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bel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alt) an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arious goods including meat and win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6479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UROPE IN 1500: THE AGE OF THE NEW MONAR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arly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was the age of the prince, the first stage of nation building that would last for 3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Monarchs consolidated territories that were divided culturally, linguistically, and histo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New Monarchs started the process of building European nation-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932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ENCH NATIONAL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ench monarchy was the first to establish a national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nobility were recruited the cavalry, from the towns and countryside the massive inf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27672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18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MARRIAGES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there was little hope of a unifie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nish people were divided in several separa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dominant states wer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t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largest and richest, and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rag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was composed of  a number of quasi-independen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62520" y="1555920"/>
            <a:ext cx="5181480" cy="4908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276720" y="297180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429000" y="3124080"/>
            <a:ext cx="3809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00600" y="38088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RDINAND AND ISAB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95680" y="16761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469, teenagers Ferdinand (Aragon) and Isabella (Castile) exchanged wedding v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479, the two crowns were united and the Catholic monarchs ruled the two kingdoms jointly and took the first steps toward forging a single Spanish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179960" cy="6019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639936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rdinand and Isabella, Artist: David Galch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RECONQU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notable achievement of the Spanish monarchs was the recovery of the lands that had been conquered by the Moors (what the Spanish called the Musl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enturies, the Spanish kingdoms had fought against the North African Muslims, who had conquered large areas of the souther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8320" y="1606680"/>
            <a:ext cx="4289400" cy="4794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3809880" y="4495680"/>
            <a:ext cx="1905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NQUISTA 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al stages of the reconquista began in 1482 and lasted a 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ggle was wages as a holy war and funded in part by the pope and Christian princes of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much blood loss, Granada finally fell and the province was absorbed into Cas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322520" cy="5105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4114800" y="4114440"/>
            <a:ext cx="2133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EWS PERSECUTED IN 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of a holy war had other consequences – Jews who had risen to prominence in government and in skilled professions in Spain were now at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conversos (Jews who converted to Catholicism) fell prey to the Spanish Inquisition as Jews across Spain were expelled in 14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190760" cy="4116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anish Inquisition used torture, public humiliation, and burnings at the stake to rid Spain of non-Catho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RDINAND AND ISABELLA CONSOLIDATE 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 unifying measures undertaken by the Spanish monarch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Castile the offici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ingle co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ed the kingdom extensively to promote loya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9625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LES V INHERITS VAST EMP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dinand and Isabella’s grandson became the Emperor Charles V (1516-15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had been born and raised in the Low Countries, where he ruled over Burgundy and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a series of dynastic accidents, he became heir to the Spanish crown with its possessions in the New World and to the vast Habsburg estates that included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3135240" cy="3581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1320" y="53341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I of Spain    AKA Charles V of the Holy Roman Empire, 1516-15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LES V USHERS IN SPAIN’S GOLDEN 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ngle most important factor in Charles’s success in unifying the Spanish kingdoms of Iberia was the fact that he had brought Spain into the forefront of European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sh pride in their success and prominence had replaced regional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and silver from the New World finance Charles’s great empire in the16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YNASTIC STRUGG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7400" y="1190520"/>
            <a:ext cx="5105520" cy="34988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rmation of large states throughout Europe led inevitably to conflicts amo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was a period of general warfare on the European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’s were an extension of a Prince’s heritage, thus the wars of the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were dynastic w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6520" y="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 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S IN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Monarchs waged war in a some new and improved ways from their medieval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 and Silver from New World meant larger professional ar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and suppl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(dispatches) allowed for quicker, more effective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484440" cy="4495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724280" y="594216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 and Swiss soldiers sold their services to the highest bid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MAIN PLAY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ree main players in the dynastic wars of the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we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arles 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HRE, Spain)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ancis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rance)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nry VI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ng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hree monarchs matured their youthful wars of conquest turned into strategic warfare designed to maintain a continental balance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920" y="1219320"/>
            <a:ext cx="177156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3880" y="2971800"/>
            <a:ext cx="1752840" cy="251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629080" y="4495680"/>
            <a:ext cx="1847520" cy="2210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 flipV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580920" y="342900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114440" y="3809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ITALIAN W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ggle for European supremacy in the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pitted the French House of Valois vs. the empire of the Habsbu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ttle ground was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te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, France seized Naples only to have the Spanish reclaim it soon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when Francis I came to the French throne and Charles V to the Spanish, Naples was just one source of fr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7432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343400" cy="3946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3429000" y="449532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TTLEFIELD: MI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1515, Francis I stunned Europe with a victory over the Swiss mercenaries at the battle of Marignano (Mi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an soon appealed to Charles V to help against the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les V then allied with Henry VIII against the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cis I himself was captured at the Battle of Pavia as Charles V won a decisive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27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ANCIS’S FORTUNES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being captured and forced to sign the Treaty of Madrid granting the HRE many concessions, Francis’s fortunes soon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returned to France, renounced the treaty, formed new alliances with a dissatisfied Henry VIII and most importantly with the powerful Ottoman sultan, Suleiman the Magnificent (1520-156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33760" cy="4226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76920" y="58672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lliance with Suleiman made Francis I a formidable 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IGHTING OV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end, the French could not dislodge the Habsburgs from Italy nor could the Habsburgs dislodge the Ottomans from 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, the Treaty of Cateau-Cambresis in 1559 ended 60 years of European confl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France and Spain were bankrupt for decades of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254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2280" y="52578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eace of Cateau-Cambresis, ending the Italian Wars, was agreed there on April 2-3, 15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LUDING THOUGHTS ON THE NEW MONAR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V abdicated his throne in 1555 and divided his empire between his brother Ferdinand I (Austria, German lands) and his son Philip II (Low countries, Spain, New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Monarchs consolidated European nations while forever ending any dream of a unified Christia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62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East, three great empires dominated the polit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ngol, the Ottoman, and the Russian (Musco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nd-Lithuania also comprised an enormous terr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ern lands were less fertile than the west and the climate was more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3556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8840" y="0"/>
            <a:ext cx="3962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NTRAL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of the continent was defined by the H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cally, central Europe was comprised of numerous principalities, Church lands, and free t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end of the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, the HRE was an empire in n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Europe was rich in minerals and ti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berian Peninsula, the French territories, and the British Isles formed the westernmost borders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iculturally, the French lands were the richest in all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67160" y="0"/>
            <a:ext cx="48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FORMATION OF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involved in the formation of states in Europe in the late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arly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included geography, population, natural resources, social characteristics, language, and reli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more, advances in warfare made consolidation easier -- what could not be inherited or married could be conqu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ombination these factors slowly moved Europe toward formation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2506680"/>
            <a:ext cx="2819520" cy="24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5105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tion! Europe under constru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2193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ASTERN 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eginning of the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, the principality of Muscovy was the largest political unit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Ivan III, “the Great” (1462-1505), Muscovy expanded greatly largely due to deterioration of the Mongol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III extended the privileges of the nobility and organized a military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9800" y="152280"/>
            <a:ext cx="3538440" cy="495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800600" y="5181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ia’s greatest historian, Sergei Platonov wrot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Grand Duke Ivan, endowed with quick wit and a will of iron completed the unification of the Russian lands under Moscow’s hand…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an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AN THE TE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litary and political achievements of Ivan the Great were furthered by his grandson Ivan IV, “the Terrible” (1533-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an IV defeated the Mongols on his SE border and incorporated the entire Volga river basin into Musco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his reign Muscovite society was divided into three groups: heredity nobility (boyars), the military service class, and the peasa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1588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46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2:55:27Z</dcterms:created>
  <dc:creator>Susan Gregory</dc:creator>
  <dc:description/>
  <dc:language>en-US</dc:language>
  <cp:lastModifiedBy>Susan Gregory</cp:lastModifiedBy>
  <dcterms:modified xsi:type="dcterms:W3CDTF">2007-09-16T02:57:17Z</dcterms:modified>
  <cp:revision>4</cp:revision>
  <dc:subject/>
  <dc:title>PowerPoint Presentation</dc:title>
</cp:coreProperties>
</file>